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F259-350D-4F9F-BAF0-14C500BD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4C48-401E-4182-AFC0-FECF049D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92EE-6144-498B-8C29-7BB399F8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3B34-FED8-4B5E-937A-2E5C7C30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260-2AF1-4BAF-A61D-CC8FCB81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DDFA-1B90-45AA-87A6-8B6F8CAD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B682-2697-4610-B85C-0AC6DE46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6B1D-401F-4DEB-AF2E-5DC4B650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2CE3-05B7-4DB7-8F40-37E6E053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703-C371-416C-85B4-D21241C6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B521-BC81-4982-882D-350A9D76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0A74-1EB6-434A-98B4-A1FA570A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5D78-C507-4857-B1DA-1A33B6F8A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worldatlas.com/webimage/countrys/namerica/usstates/fl.htm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theus50.com/florida/flag.php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jewelrymall.com/cgibin/xlinker.cgi?loc=123&amp;lf=123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jewelrymall.com/stones/moonstone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248520" y="510552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86600" y="5181480"/>
            <a:ext cx="2057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Matt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19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19320" y="762120"/>
            <a:ext cx="640080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FloRida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Capital: Tallaha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Population: 15,982,3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Entered the union: March 3,18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otto: In god we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Nick name: Sun shine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Flower: Orange blos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ird: Mocking 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eaning behind name: Named on Easter by Ponce de Leon meaning “flowery Eas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int Augustine is the oldest European settlement in Nor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lando attracts more visitors than any other amusement park destination in the 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ami beach pharmacist Ben Green made the first sun tan screen in 19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ami installed first ATM, especially for roller bl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Florida map"/>
          <p:cNvPicPr/>
          <p:nvPr/>
        </p:nvPicPr>
        <p:blipFill>
          <a:blip r:embed="rId1"/>
          <a:stretch/>
        </p:blipFill>
        <p:spPr>
          <a:xfrm>
            <a:off x="0" y="0"/>
            <a:ext cx="3962520" cy="3179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86200" y="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ld Atlas, map of Florida, March 2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457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orldatlas.com/webimage/countrys/namerica/usstates/f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200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p of Florida shows its capitol, Tallahassee, and many other 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Official Florida state flag."/>
          <p:cNvPicPr/>
          <p:nvPr/>
        </p:nvPicPr>
        <p:blipFill>
          <a:blip r:embed="rId3"/>
          <a:stretch/>
        </p:blipFill>
        <p:spPr>
          <a:xfrm>
            <a:off x="5105520" y="4187880"/>
            <a:ext cx="4038480" cy="2670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00200" y="4952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lag of Florida is a symbol of it’s authority and sovereig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97960" y="3276720"/>
            <a:ext cx="40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50,state of Florida flag, March 2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59360" y="3733920"/>
            <a:ext cx="41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theus50.com/florida/flag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58128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37339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welry Mall, Moon stone jewelry, March 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962520"/>
            <a:ext cx="420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jewelrymall.com/stones/moonston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808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one example of one of Florida’s state gems. This gem is a moon 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6:37Z</dcterms:created>
  <dc:creator>install</dc:creator>
  <dc:description/>
  <dc:language>en-US</dc:language>
  <cp:lastModifiedBy>install</cp:lastModifiedBy>
  <dcterms:modified xsi:type="dcterms:W3CDTF">2012-04-16T13:05:49Z</dcterms:modified>
  <cp:revision>10</cp:revision>
  <dc:subject/>
  <dc:title>Slide 1</dc:title>
</cp:coreProperties>
</file>